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3B4-95DC-482C-8817-18F5282F5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2C24-6CF5-470C-94A9-29841B50A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64F0-0FB6-4676-B87A-C61334A93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A07-98D4-44DA-A511-E19696246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8BAC-6757-4273-9606-AE4D6F254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FE2F-94F4-4D45-9626-D3E9FBA2D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6DB-4952-451E-8FA4-FE7970A1C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CF4-917D-4920-A973-7F94129F1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DB3-5A4A-48DA-AACE-34779345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70B-813A-46D6-83DC-10B189E2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74F-FF27-4133-990C-5C41A7CC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517-A262-4F0C-831A-1CF96F89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C494-C830-4C03-8BF3-9C9928CF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918-697D-411D-959F-BDC038A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4384-3A76-4DC5-91C1-5987F63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A8C5-7683-4EDB-90EF-0BE275F8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8A72-EB4D-4D88-87EB-18C84070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B53B-EBF4-47FB-B073-5195CAF8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370-A4F0-460F-8453-0E89C1E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90C-F715-4FC4-8516-1BCD204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1B0-96FC-47FA-A233-6E7B5E0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4DC-BC4A-431F-8C40-D5298E5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41E-F4C2-419D-941E-D87B3AE3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32E3-1E8D-4048-B124-D7EF76D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8140-DA93-4F99-85F6-BD49FC7D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434-AAEA-4C52-A0C1-69889E78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03-67B5-415F-AD7C-37E3829E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26A-88AB-4A27-AC2E-629F8CAB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341-A08C-4971-BBB8-9437C63B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2B2-E8FF-4EA3-9CA9-43C982B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D94-5AA1-4DA3-9BDA-1A80439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7E7-E3A5-4D8A-A1C2-1A148DF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PTPasifikaTemplate3"/>
          <p:cNvPicPr/>
          <p:nvPr/>
        </p:nvPicPr>
        <p:blipFill>
          <a:blip r:embed="rId2"/>
          <a:stretch/>
        </p:blipFill>
        <p:spPr>
          <a:xfrm>
            <a:off x="0" y="490212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F60B-54F5-46A8-8F4A-0537304FD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PPTPasifikaTemplate2"/>
          <p:cNvPicPr/>
          <p:nvPr/>
        </p:nvPicPr>
        <p:blipFill>
          <a:blip r:embed="rId2"/>
          <a:stretch/>
        </p:blipFill>
        <p:spPr>
          <a:xfrm>
            <a:off x="0" y="4915080"/>
            <a:ext cx="9144000" cy="1942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755640" y="1700280"/>
            <a:ext cx="7696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LogoSpotRGBE"/>
          <p:cNvPicPr/>
          <p:nvPr/>
        </p:nvPicPr>
        <p:blipFill>
          <a:blip r:embed="rId3"/>
          <a:stretch/>
        </p:blipFill>
        <p:spPr>
          <a:xfrm>
            <a:off x="264960" y="171360"/>
            <a:ext cx="2756160" cy="85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18C7-9402-489E-A037-3E85E2B4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Transition into School</a:t>
            </a:r>
            <a:br>
              <a:rPr sz="3200"/>
            </a:br>
            <a:r>
              <a:rPr b="1" lang="en-NZ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cc0000"/>
                </a:solidFill>
                <a:latin typeface="Arial"/>
              </a:rPr>
              <a:t>Parent Hui 2015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2420640"/>
            <a:ext cx="309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132000" y="2265480"/>
            <a:ext cx="2808360" cy="39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cc0000"/>
                </a:solidFill>
                <a:latin typeface="Arial"/>
              </a:rPr>
              <a:t>Timing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024680" cy="43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What is needed for a good transition into school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plann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/ whānau engagement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relationships between school, early childhood centre, families / whānau and practitio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ear and shared understanding about resources available and requir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ing after tran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200" spc="-1" strike="noStrike">
                <a:solidFill>
                  <a:srgbClr val="cc0000"/>
                </a:solidFill>
                <a:latin typeface="Arial"/>
              </a:rPr>
              <a:t>Culturally responsive practice</a:t>
            </a:r>
            <a:endParaRPr b="1" lang="en-US" sz="4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ulture, language, identity, and background of each child and their parents/caregivers, whānau, are valued and included when planning transi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Early planning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hole process started way back near their 4th birthday...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the school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 with school te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resources may be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nd how to access resour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Parents/caregivers, whānau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s/caregivers, whānau need to be well informed and supported so that they feel confident to lead the transition to school process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rong relationships between school, early childhood centre, families / whānau and practitioner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transition meetings are plan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clear communication across all invol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 clear and shared understanding of the strengths and needs of the chi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 clear and shared understanding about resources available and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Shared understanding about resourc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come as funding, materials and people. People included specialist skills, experience, people's time, and professional learning and developme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 rot="879000">
            <a:off x="4812840" y="2214720"/>
            <a:ext cx="3799080" cy="241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0000"/>
                </a:solidFill>
                <a:latin typeface="Arial"/>
              </a:rPr>
              <a:t>Some resources availab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special education g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ongoing resourcing scheme (O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dvisers on deaf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resource teachers of the de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new zealand sign language@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Arial"/>
              </a:rPr>
              <a:t>assistive technology  -  FM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cc0000"/>
                </a:solidFill>
                <a:latin typeface="Arial"/>
              </a:rPr>
              <a:t>Monitoring</a:t>
            </a:r>
            <a:endParaRPr b="1" lang="en-US" sz="3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ce transition into school is completed a process is set up for informal and formal monitoring in the schoo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acher pa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meetings –parent / whānau, advisers on deaf children, resource teachers of deaf,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education pla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0:37:09Z</dcterms:created>
  <dc:creator>cull</dc:creator>
  <dc:description/>
  <dc:language>en-US</dc:language>
  <cp:lastModifiedBy>Secretary</cp:lastModifiedBy>
  <dcterms:modified xsi:type="dcterms:W3CDTF">2015-05-07T22:38:14Z</dcterms:modified>
  <cp:revision>436</cp:revision>
  <dc:subject/>
  <dc:title>Slide 1</dc:title>
</cp:coreProperties>
</file>